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9358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0000" y="4284000"/>
            <a:ext cx="9358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52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0000" y="428400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5200" y="428400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07928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8440" y="107928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0000" y="428400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28400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8440" y="4284000"/>
            <a:ext cx="3013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0000" y="1079280"/>
            <a:ext cx="93582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93582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45666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5200" y="1079280"/>
            <a:ext cx="45666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60000" y="71280"/>
            <a:ext cx="935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5200" y="1079280"/>
            <a:ext cx="45666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0000" y="428400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45666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5200" y="428400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079280"/>
            <a:ext cx="45666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0000" y="4284000"/>
            <a:ext cx="9358200" cy="29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1280"/>
            <a:ext cx="93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079280"/>
            <a:ext cx="9358200" cy="61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15280" y="7307280"/>
            <a:ext cx="15843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BD77057-FA92-40D0-8330-E7FD60AB033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of 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kernel.org development and the embedded world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85360" y="1618920"/>
            <a:ext cx="90248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Andrew Morton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&lt;akpm@linux-foundation.org&gt;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&lt;akpm@google.com&gt;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CELF Embedded Linux Conferenc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April 2008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Which kernel version to use? (cont'd)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‏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 single-product company can feasibly freeze on one kernel version for ev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s is probably less viable for multi-product compan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Free support!!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y do kernel.org developers give free support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ell, we don'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e will work with you to resolve kernel problems and shortcom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t is a mutually beneficial transac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f fixing your problem won't improve the mainline kernel we won't help you (much)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f your problem is in 2.6.ancient then we won't be very interes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First question: “does it happen in current mainline”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his is a strong reason for using recent kernels in product developmen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The merge decision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“dictator model”: maintainers make arbitrary decis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e don't do thi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“rule of law” model: maintainers decide whether a submission meets the written rul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Maintainer is a “judge” and not a “dictator”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We do do thi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nfortunately there are no written rules ;)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Should meet coding guidelines (these </a:t>
            </a:r>
            <a:r>
              <a:rPr b="0" i="1" lang="en-US" sz="2800" spc="-1" strike="noStrike">
                <a:solidFill>
                  <a:srgbClr val="e6e6e6"/>
                </a:solidFill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written)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s useful to some kernel us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Long-term maintainable (traded off against usefulness)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Non-injurious to other parties  &lt;- most important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f the feature is large: does it have a maintenance team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The merge decision (cont'd)</a:t>
            </a: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‏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en in doubt: ask me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 can help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at's what I'm here fo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I'm really nice!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And I have great legs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But I'll only help you if there's something in it for m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Working with the kernel.org team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dentify one or two specialists in your organization as the kernel.org interfa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Don't expect every developer to work with the public develop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It just isn't efficien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Times New Roman"/>
              </a:rPr>
              <a:t>Or effectiv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en in doubt, ask m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Overview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ssumed audience is developers of embedded products  rather than developers of Linux itsel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on't cover day-to-day interaction with the kernel.org tea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ill cover economics of embedded, how this impacts their kernel.org particip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atch-hoarding, and why not to do 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y merge upstream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ich kernel version to use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hy do kernel.org developers give free support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merge decision making process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The economics of Linux-for-embedded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product's kernel version is usually not upgraded across product life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n desktop and server kernel upgrades are expect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n embedded the software reaches the end-user directly from the manufactur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n desktop and server, it is usually via intermediari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Exceptional case: hardware manufacturers whose customers develop embedded produc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re seems to be generally less cash handy in the embedded seg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Net effect: embedded development is underrepresented in kernel.org work, relative to its economic importan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Effects of embedded's under-representation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re is a risk that it will tilt development too far toward server/deskto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owever the kernel.org team care about Linux-on-embedded and want it to work wel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o we do consider each change's effects on small system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owever this is mainly a minimize-the-damage effo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New server/desktop features should not degrade embedd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But only a few developers are actively working to improve Linux for embedd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s is unfortunate – just a single full-time “embedded maintainer” could have a large effec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How you can help kernel.org development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Not all contributions are code patches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We (and the kernel) can benefit from your experien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ell us your proble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ich features are miss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Help us prioritize different proposals/featur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Help us to direct those resources which we do hav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Read the websites, read the mailing lists and don't just lu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Review patch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Suggesting improvements is a good way to get work done for fre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squeaky gate gets the oi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Patch hoarding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Various embedded groups seem to like to maintain out-of-tree patchse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hese patchsets linger on for ever and never seem to get merg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Due to lack of resources (I hope)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o retain a little competitive advantage (I hope not)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t is inefficient and ineffective to have all these little patchpiles dotted around the pla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Let's get them merged up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Why merge upstream? The pros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review, integration and release process will improve the code qualit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Once merged, your maintenance cost falls to near-zer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Others will improve i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Others will no longer break it (as much)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Others will enhance 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t gets more test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Others will fix bugs in 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Eliminates possibility that a competing implementation will be merg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You avoid the risk of having to migrate to a new implementation, or of maintaining yours for ev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Why merge upstream? The cons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t requires some up-front wo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But less long-term work (I think)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You may be asked to change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his hurts if you've already deployed i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s is a reason to merge before deploying!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e feature becomes more easily available to your competito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Tough luck, live with it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71280"/>
            <a:ext cx="9360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Which kernel version to use?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9539280" cy="62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any embedded developers use old kernel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And that's OK – they were fine kernel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2320" indent="-21348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Much of the development in recent years has been addressing large-system shortcoming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However, freezing on an old kernel is a short-term strateg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When the time comes to upgrade it can be painfu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And you </a:t>
            </a:r>
            <a:r>
              <a:rPr b="0" lang="en-US" sz="2800" spc="-1" strike="noStrike" u="sng">
                <a:solidFill>
                  <a:srgbClr val="e6e6e6"/>
                </a:solidFill>
                <a:uFillTx/>
                <a:latin typeface="Times New Roman"/>
              </a:rPr>
              <a:t>will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want to upgrade, to pick up new featur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sing an old kernel rules out support from the kernel.org tea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 better strategy might be to develop product on current kernel.org release, freeze it at end of product develop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ntermediate kernel providers should be able to help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kernel.org developers might be able to help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Introducing developments and alternatives, recommending one or more strategies</dc:description>
  <dc:language>en-US</dc:language>
  <cp:lastModifiedBy>PLanning</cp:lastModifiedBy>
  <dcterms:modified xsi:type="dcterms:W3CDTF">2008-05-01T20:40:42Z</dcterms:modified>
  <cp:revision>1</cp:revision>
  <dc:subject/>
  <dc:title>kernel.org development and the embedded world</dc:title>
</cp:coreProperties>
</file>